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594-AA83-402C-81EC-41D6A119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688-1587-4344-A6B9-C81606F6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9CB-4487-4781-9CD6-C93BBE77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F148-BD67-4B7E-8DB1-43CB5D58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4FEB-886C-427C-BBE3-7C5B6DFC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0AFD-9EFF-4AEC-9FC9-D5F79ECA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71F8-8935-4C98-B9C6-CDA761BD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3F45-CB5D-4DB7-85FE-D108DE0D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9977-F6F3-4D6E-8C13-265E5408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43A6-5A70-454B-9F37-34601F65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9FB6-64F3-479B-8253-B32C9E7E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8DF-AD63-4073-9A55-6DA2E8D9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F8F3-46DC-4078-A08D-0CBCD2D1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CC0D-4D9C-4CBF-8B01-6E5F7330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1369-550C-4915-AC0C-3BE036DF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9BCA-2A57-454B-80E6-C7334E57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C839-1466-4FAE-B9E7-9A311E49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23060-E767-48E9-BCB1-5E43F3B7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86295-A897-438B-A2CB-A35CBD27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920DC-6E7E-455E-B3CC-57424A0E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F10B3-F1C7-4A3B-8DA6-408F85C4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B815F-1AAC-4A00-8F03-8C637A21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490-D930-4596-9360-F745DCCF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0F00A-FA8D-455C-B58A-D19615B5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EBA29-1F6B-488C-8A30-5D4A3679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C4636-3109-410A-A863-70D6AB86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3BBC4-932A-4050-A11C-A3DA5187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A9D3D-963C-441C-8133-B9CE9F79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87669-993C-463C-A139-37D19205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D554F-FC41-4443-9024-53E2649A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7B19C-43A0-4410-BD19-1A747178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35A60-346B-4D7D-A993-191893A1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C4B02-4428-4731-8473-EA5A164F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D03-E47E-4E47-9A3D-02F1A24E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9532A-73FE-40CA-B936-60BAEFC2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E0AF3-7006-4C67-8A05-D51E76CE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8B7BF-92B4-4F3C-B8EF-BF54EEDE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577A3-A1F6-4C00-8DAE-8344329B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2EABD-2EE1-4A0A-8CA9-F206B924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F1FCA-F8F8-486E-89FA-4779DF26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91480-2A42-4535-86C4-88A1A937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796D9-796F-4E45-872F-5FB95219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9A727-7044-4ACA-8011-B0EC236E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04E42-58D9-4C06-AACD-667B04EC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21B-A2B5-43E2-A98E-95C0D742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C8015-149F-4C6C-A7B1-CA1F851B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75011-F459-4694-B23E-6E51263E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45E95-6716-4CBE-8610-CAAEB4AD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06997-5681-44EE-938E-695EC43D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CE91F-0997-4732-8625-5C89AD4F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96F30-E234-48B0-AA4F-98F0A2A6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F75A8-567E-43F3-A846-6BCFD32B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6DC0C-F488-4BD7-9565-CAF5EBB3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C3CC6-D7D7-449E-AF26-425EFFFA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D2125-8118-405A-90C2-A605A9BC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94A-A80D-4AE2-AE70-2832AC6C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7E5A8-CAB3-4640-BB91-82390E97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4D45-0F26-4333-9AFC-97C17382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D414-F897-4C65-94D1-64CA2F8F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6DC3-D2FB-468C-B9C0-64B8587B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511E-455A-4090-8615-4563275F735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85CD-E6EC-450D-B285-DA7A1917281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25A7-4028-4ACB-8CE6-74250DE9A91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7D7A-ACD9-45A5-AB1A-52EE7F574B5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8ED8-3565-4500-83FF-13A0499F980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Ipl2.org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Monica Miran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9T15:35:17Z</dcterms:created>
  <dc:creator>training</dc:creator>
  <dc:description/>
  <dc:language>en-US</dc:language>
  <cp:lastModifiedBy>training</cp:lastModifiedBy>
  <dcterms:modified xsi:type="dcterms:W3CDTF">2011-07-09T16:01:51Z</dcterms:modified>
  <cp:revision>4</cp:revision>
  <dc:subject/>
  <dc:title>Ipl2.org</dc:title>
</cp:coreProperties>
</file>